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A73-A174-4B51-A9E5-39E3886A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B19-D6CB-460D-B450-7CC85600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2CA-F5F0-4A19-B7B8-F81DD8DF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E40-7A91-44F4-B351-238117A1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516-7E1C-4231-AD38-3CE35CBC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4D7-69F6-4B26-9502-E9B78A3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6B8-20A0-4DF6-AE1B-4A5A307A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1BB-E618-4FBE-BDB0-8E380FE0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117-2752-4047-AB7F-97362594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140-63CC-435E-88F6-3481E43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73B-0C2B-4B70-BC1E-DA69CE39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3B4-20BB-4908-B6E0-5B33A7CF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5790-231D-405B-BD29-BF8FE3311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22:58Z</dcterms:created>
  <dc:creator> </dc:creator>
  <dc:description/>
  <dc:language>en-US</dc:language>
  <cp:lastModifiedBy> </cp:lastModifiedBy>
  <dcterms:modified xsi:type="dcterms:W3CDTF">2009-03-03T17:23:18Z</dcterms:modified>
  <cp:revision>1</cp:revision>
  <dc:subject/>
  <dc:title>Slide 1</dc:title>
</cp:coreProperties>
</file>